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0.wmf" ContentType="image/x-wmf"/>
  <Override PartName="/ppt/media/image2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9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7.wmf" ContentType="image/x-wmf"/>
  <Override PartName="/ppt/media/image5.gif" ContentType="image/gif"/>
  <Override PartName="/ppt/media/image17.wmf" ContentType="image/x-wm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BB15-2E80-403E-BE15-8310986B659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50A5-B231-4BDC-A7B3-2DFB1DFC74F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AD2-B0EB-4750-AFB3-D0490DA35740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358C-EE63-4308-9CDE-09F59CAB264F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F7B5-085B-46DE-8DBB-70D4C6EC1A11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807A-9F49-4E4C-860C-3BE39EDE56B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DA59-8344-4129-BC96-D2593BC5245D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5F5F-9F07-44C0-84F3-D8737FC3EAAF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7FCC-07BD-4A21-BA3F-9B30D47F41B4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24D-A2CF-4405-A67B-B5FA92356C98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1E47-07BB-4A80-970F-BF55E330098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1906-8991-41BD-A6B8-E4FE31479FDE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4D73-0624-4911-B176-E6CA5AA8F03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3A3-E7D2-4865-B6A4-71BB8041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353C-1F3C-4FB2-ADE9-12531BFB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307F-CB17-404A-BD55-DA1EFDE4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368-D661-47DC-BB0C-D3EEBC3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88E1-DEA7-40D8-AF47-9BE2898F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FE4B-81F1-43F8-9ADB-BDBDA3E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4B74-2930-4293-ACB1-7623736F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9797-41CB-4334-8055-76B0ADDB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C68D-AC3E-4877-9AB6-558CC27A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EB45-1E0B-4EAF-8EE4-0B49F4E6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778D-F03D-400B-9F8F-A07C073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B8D-67DB-45E4-A84D-B8E9D23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DB7B-DECE-47F1-A06F-B251DA6D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534A-5204-4DEC-82DE-1B85E9F5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0F83-D1F6-4913-A0DB-21237D32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9C35-6BFE-44A8-AE3B-2BE8C390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C807-37E4-42EA-9520-81744883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BD5-B7AC-48B6-B795-0F2E3D1D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C90A-38C7-43B1-87D4-C4508ADB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9EC-3218-4101-9FD3-5B276279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84D6-C689-460C-8422-32E8F4BA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843-66EC-4577-BB6C-63397732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6F4-B58A-4338-A6DC-AE21782A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9E9-5705-4565-B85F-6957B119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D0E9-92F1-45CC-A0E9-84B307A7715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B12F-68C6-4E26-8D46-028ED8F9E42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9.gif"/><Relationship Id="rId3" Type="http://schemas.openxmlformats.org/officeDocument/2006/relationships/image" Target="../media/image3.gif"/><Relationship Id="rId4" Type="http://schemas.openxmlformats.org/officeDocument/2006/relationships/image" Target="../media/image18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wm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image" Target="../media/image4.gif"/><Relationship Id="rId5" Type="http://schemas.openxmlformats.org/officeDocument/2006/relationships/image" Target="../media/image7.wm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2971"/>
                </a:solidFill>
                <a:latin typeface="Book Antiqua"/>
              </a:rPr>
              <a:t>Par Matt Maxwe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28600" y="609480"/>
            <a:ext cx="8610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aut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bateau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a en haut avec Zoz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C:\Documents and Settings\RandM\Local Settings\Temporary Internet Files\Content.IE5\AC38MMT1\MMj02362150000[1].gif"/>
          <p:cNvPicPr/>
          <p:nvPr/>
        </p:nvPicPr>
        <p:blipFill>
          <a:blip r:embed="rId1"/>
          <a:stretch/>
        </p:blipFill>
        <p:spPr>
          <a:xfrm>
            <a:off x="5486400" y="152280"/>
            <a:ext cx="1981080" cy="9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Documents and Settings\RandM\Local Settings\Temporary Internet Files\Content.IE5\AC38MMT1\MMj03033780000[1].gif"/>
          <p:cNvPicPr/>
          <p:nvPr/>
        </p:nvPicPr>
        <p:blipFill>
          <a:blip r:embed="rId2"/>
          <a:stretch/>
        </p:blipFill>
        <p:spPr>
          <a:xfrm>
            <a:off x="5943600" y="2209680"/>
            <a:ext cx="1676520" cy="158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RandM\Local Settings\Temporary Internet Files\Content.IE5\Z0DUKDON\MMj02837360000[1].gif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33520" y="304920"/>
            <a:ext cx="86104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5" descr="C:\Documents and Settings\RandM\Local Settings\Temporary Internet Files\Content.IE5\CFCXQ621\MCj04298310000[1].wmf"/>
          <p:cNvPicPr/>
          <p:nvPr/>
        </p:nvPicPr>
        <p:blipFill>
          <a:blip r:embed="rId1"/>
          <a:stretch/>
        </p:blipFill>
        <p:spPr>
          <a:xfrm>
            <a:off x="6553080" y="533520"/>
            <a:ext cx="1889280" cy="89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Documents and Settings\RandM\Local Settings\Temporary Internet Files\Content.IE5\AC38MMT1\MMj02362150000[1].gif"/>
          <p:cNvPicPr/>
          <p:nvPr/>
        </p:nvPicPr>
        <p:blipFill>
          <a:blip r:embed="rId2"/>
          <a:stretch/>
        </p:blipFill>
        <p:spPr>
          <a:xfrm>
            <a:off x="6324480" y="3200400"/>
            <a:ext cx="1981440" cy="9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RandM\Local Settings\Temporary Internet Files\Content.IE5\FR7E5E4P\MMj03567090000[1].gif"/>
          <p:cNvPicPr/>
          <p:nvPr/>
        </p:nvPicPr>
        <p:blipFill>
          <a:blip r:embed="rId3"/>
          <a:stretch/>
        </p:blipFill>
        <p:spPr>
          <a:xfrm>
            <a:off x="563868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RandM\Local Settings\Temporary Internet Files\Content.IE5\AC38MMT1\MMj03033780000[1].gif"/>
          <p:cNvPicPr/>
          <p:nvPr/>
        </p:nvPicPr>
        <p:blipFill>
          <a:blip r:embed="rId4"/>
          <a:stretch/>
        </p:blipFill>
        <p:spPr>
          <a:xfrm>
            <a:off x="6248520" y="4495680"/>
            <a:ext cx="1676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533520" y="30492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C:\Documents and Settings\RandM\Local Settings\Temporary Internet Files\Content.IE5\Z0DUKDON\MMj02837360000[1].gif"/>
          <p:cNvPicPr/>
          <p:nvPr/>
        </p:nvPicPr>
        <p:blipFill>
          <a:blip r:embed="rId1"/>
          <a:stretch/>
        </p:blipFill>
        <p:spPr>
          <a:xfrm>
            <a:off x="617220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RandM\Local Settings\Temporary Internet Files\Content.IE5\QQ30MGKB\MMj02835430000[1].gif"/>
          <p:cNvPicPr/>
          <p:nvPr/>
        </p:nvPicPr>
        <p:blipFill>
          <a:blip r:embed="rId2"/>
          <a:stretch/>
        </p:blipFill>
        <p:spPr>
          <a:xfrm>
            <a:off x="5638680" y="2362320"/>
            <a:ext cx="1219320" cy="109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RandM\Local Settings\Temporary Internet Files\Content.IE5\PZISHHID\MMj03653030000[1].gif"/>
          <p:cNvPicPr/>
          <p:nvPr/>
        </p:nvPicPr>
        <p:blipFill>
          <a:blip r:embed="rId3"/>
          <a:stretch/>
        </p:blipFill>
        <p:spPr>
          <a:xfrm>
            <a:off x="7010280" y="4038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C:\Documents and Settings\RandM\Local Settings\Temporary Internet Files\Content.IE5\QQ30MGKB\MMj03368240000[1].gif"/>
          <p:cNvPicPr/>
          <p:nvPr/>
        </p:nvPicPr>
        <p:blipFill>
          <a:blip r:embed="rId4"/>
          <a:stretch/>
        </p:blipFill>
        <p:spPr>
          <a:xfrm>
            <a:off x="7162920" y="2438280"/>
            <a:ext cx="1419120" cy="83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Documents and Settings\RandM\Local Settings\Temporary Internet Files\Content.IE5\WI64F3O9\MMj02836760000[1].gif"/>
          <p:cNvPicPr/>
          <p:nvPr/>
        </p:nvPicPr>
        <p:blipFill>
          <a:blip r:embed="rId5"/>
          <a:stretch/>
        </p:blipFill>
        <p:spPr>
          <a:xfrm>
            <a:off x="5867280" y="3809880"/>
            <a:ext cx="8384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28600" y="304920"/>
            <a:ext cx="861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Voici l’histoire de Mari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aller voir son am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  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ierre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qui habit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très, très loi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 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s, pour Marie, ça va bie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C:\Documents and Settings\RandM\Local Settings\Temporary Internet Files\Content.IE5\PZISHHID\MMj03653030000[1].gif"/>
          <p:cNvPicPr/>
          <p:nvPr/>
        </p:nvPicPr>
        <p:blipFill>
          <a:blip r:embed="rId1"/>
          <a:stretch/>
        </p:blipFill>
        <p:spPr>
          <a:xfrm>
            <a:off x="6477120" y="228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Documents and Settings\RandM\Local Settings\Temporary Internet Files\Content.IE5\WI64F3O9\MMj02836760000[1].gif"/>
          <p:cNvPicPr/>
          <p:nvPr/>
        </p:nvPicPr>
        <p:blipFill>
          <a:blip r:embed="rId2"/>
          <a:stretch/>
        </p:blipFill>
        <p:spPr>
          <a:xfrm>
            <a:off x="152280" y="3352680"/>
            <a:ext cx="1295640" cy="325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C:\Documents and Settings\RandM\Local Settings\Temporary Internet Files\Content.IE5\PZISHHID\MMj02365250000[1].gif"/>
          <p:cNvPicPr/>
          <p:nvPr/>
        </p:nvPicPr>
        <p:blipFill>
          <a:blip r:embed="rId3"/>
          <a:stretch/>
        </p:blipFill>
        <p:spPr>
          <a:xfrm>
            <a:off x="6400800" y="3429000"/>
            <a:ext cx="21718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533520" y="304920"/>
            <a:ext cx="86104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 à pied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march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’est ça qu’elle fait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(Comptez </a:t>
            </a:r>
            <a:r>
              <a:rPr b="0" lang="fr-CA" sz="4500" spc="-1" strike="noStrike">
                <a:solidFill>
                  <a:srgbClr val="404040"/>
                </a:solidFill>
                <a:latin typeface="Constantia"/>
              </a:rPr>
              <a:t>à 8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Documents and Settings\RandM\Local Settings\Temporary Internet Files\Content.IE5\FR7E5E4P\MMj03567090000[1].gif"/>
          <p:cNvPicPr/>
          <p:nvPr/>
        </p:nvPicPr>
        <p:blipFill>
          <a:blip r:embed="rId1"/>
          <a:stretch/>
        </p:blipFill>
        <p:spPr>
          <a:xfrm>
            <a:off x="6095880" y="91440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RandM\Local Settings\Temporary Internet Files\Content.IE5\CFCXQ621\MCj04298310000[1].wmf"/>
          <p:cNvPicPr/>
          <p:nvPr/>
        </p:nvPicPr>
        <p:blipFill>
          <a:blip r:embed="rId2"/>
          <a:stretch/>
        </p:blipFill>
        <p:spPr>
          <a:xfrm>
            <a:off x="6095880" y="44197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33520" y="91440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Une policière dit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« Est-ce que je peux t’aider?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dit:  « Dans mon auto tu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eux monter.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ntenant, l’auto ne marche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as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auvre Marie, ça ne va pas.</a:t>
            </a:r>
            <a:r>
              <a:rPr b="0" lang="en-US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C:\Documents and Settings\RandM\Local Settings\Temporary Internet Files\Content.IE5\RE4BYWQW\MMj02830930000[1].gif"/>
          <p:cNvPicPr/>
          <p:nvPr/>
        </p:nvPicPr>
        <p:blipFill>
          <a:blip r:embed="rId1"/>
          <a:stretch/>
        </p:blipFill>
        <p:spPr>
          <a:xfrm>
            <a:off x="6019920" y="152280"/>
            <a:ext cx="264132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RandM\Local Settings\Temporary Internet Files\Content.IE5\RE4BYWQW\MMj01892490000[1].gif"/>
          <p:cNvPicPr/>
          <p:nvPr/>
        </p:nvPicPr>
        <p:blipFill>
          <a:blip r:embed="rId2"/>
          <a:stretch/>
        </p:blipFill>
        <p:spPr>
          <a:xfrm>
            <a:off x="7696080" y="2590920"/>
            <a:ext cx="13147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Documents and Settings\RandM\My Documents\My Pictures\Microsoft Clip Organizer\j0303675.wmf"/>
          <p:cNvPicPr/>
          <p:nvPr/>
        </p:nvPicPr>
        <p:blipFill>
          <a:blip r:embed="rId3"/>
          <a:stretch/>
        </p:blipFill>
        <p:spPr>
          <a:xfrm>
            <a:off x="7620120" y="2438280"/>
            <a:ext cx="15238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533520" y="304920"/>
            <a:ext cx="86104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 à pied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aut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bateau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(Comptez </a:t>
            </a:r>
            <a:r>
              <a:rPr b="0" lang="fr-CA" sz="4500" spc="-1" strike="noStrike">
                <a:solidFill>
                  <a:srgbClr val="404040"/>
                </a:solidFill>
                <a:latin typeface="Constantia"/>
              </a:rPr>
              <a:t>à 8)</a:t>
            </a:r>
            <a:r>
              <a:rPr b="0" lang="en-US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Documents and Settings\RandM\Local Settings\Temporary Internet Files\Content.IE5\FR7E5E4P\MMj03567090000[1].gif"/>
          <p:cNvPicPr/>
          <p:nvPr/>
        </p:nvPicPr>
        <p:blipFill>
          <a:blip r:embed="rId1"/>
          <a:stretch/>
        </p:blipFill>
        <p:spPr>
          <a:xfrm>
            <a:off x="6781680" y="228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RandM\Local Settings\Temporary Internet Files\Content.IE5\AC38MMT1\MMj03033780000[1].gif"/>
          <p:cNvPicPr/>
          <p:nvPr/>
        </p:nvPicPr>
        <p:blipFill>
          <a:blip r:embed="rId2"/>
          <a:stretch/>
        </p:blipFill>
        <p:spPr>
          <a:xfrm>
            <a:off x="6705720" y="2362320"/>
            <a:ext cx="1676160" cy="158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Documents and Settings\RandM\Local Settings\Temporary Internet Files\Content.IE5\AC38MMT1\MMj02362150000[1].gif"/>
          <p:cNvPicPr/>
          <p:nvPr/>
        </p:nvPicPr>
        <p:blipFill>
          <a:blip r:embed="rId3"/>
          <a:stretch/>
        </p:blipFill>
        <p:spPr>
          <a:xfrm>
            <a:off x="5105520" y="1523880"/>
            <a:ext cx="1981080" cy="9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C:\Documents and Settings\RandM\Local Settings\Temporary Internet Files\Content.IE5\CFCXQ621\MCj04298310000[1].wmf"/>
          <p:cNvPicPr/>
          <p:nvPr/>
        </p:nvPicPr>
        <p:blipFill>
          <a:blip r:embed="rId4"/>
          <a:stretch/>
        </p:blipFill>
        <p:spPr>
          <a:xfrm>
            <a:off x="6324480" y="41911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57200" y="380880"/>
            <a:ext cx="8229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ntenant elle y va en bateau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Qui s’arrête dans l’eau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Un extraterrestre dit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« Comment ça va?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auvre Marie, viens avec moi.</a:t>
            </a:r>
            <a:r>
              <a:rPr b="0" lang="en-US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C:\Documents and Settings\RandM\Local Settings\Temporary Internet Files\Content.IE5\AC38MMT1\MMj03033780000[1].gif"/>
          <p:cNvPicPr/>
          <p:nvPr/>
        </p:nvPicPr>
        <p:blipFill>
          <a:blip r:embed="rId1"/>
          <a:stretch/>
        </p:blipFill>
        <p:spPr>
          <a:xfrm>
            <a:off x="7010280" y="1219320"/>
            <a:ext cx="1676520" cy="15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Documents and Settings\RandM\My Documents\My Pictures\Microsoft Clip Organizer\j0303675.wmf"/>
          <p:cNvPicPr/>
          <p:nvPr/>
        </p:nvPicPr>
        <p:blipFill>
          <a:blip r:embed="rId2"/>
          <a:stretch/>
        </p:blipFill>
        <p:spPr>
          <a:xfrm>
            <a:off x="6858000" y="106668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RandM\Local Settings\Temporary Internet Files\Content.IE5\Z0DUKDON\MMj02837360000[1].gif"/>
          <p:cNvPicPr/>
          <p:nvPr/>
        </p:nvPicPr>
        <p:blipFill>
          <a:blip r:embed="rId3"/>
          <a:stretch/>
        </p:blipFill>
        <p:spPr>
          <a:xfrm>
            <a:off x="2590920" y="5334120"/>
            <a:ext cx="176688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RandM\Local Settings\Temporary Internet Files\Content.IE5\QQ30MGKB\MMj03033670000[1].gif"/>
          <p:cNvPicPr/>
          <p:nvPr/>
        </p:nvPicPr>
        <p:blipFill>
          <a:blip r:embed="rId4"/>
          <a:stretch/>
        </p:blipFill>
        <p:spPr>
          <a:xfrm>
            <a:off x="6324480" y="3276720"/>
            <a:ext cx="1447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33520" y="304920"/>
            <a:ext cx="861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aut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bateau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a en hau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avec Zoz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(Comptez </a:t>
            </a:r>
            <a:r>
              <a:rPr b="0" lang="fr-CA" sz="4500" spc="-1" strike="noStrike">
                <a:solidFill>
                  <a:srgbClr val="404040"/>
                </a:solidFill>
                <a:latin typeface="Constantia"/>
              </a:rPr>
              <a:t>à 8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C:\Documents and Settings\RandM\Local Settings\Temporary Internet Files\Content.IE5\AC38MMT1\MMj02362150000[1].gif"/>
          <p:cNvPicPr/>
          <p:nvPr/>
        </p:nvPicPr>
        <p:blipFill>
          <a:blip r:embed="rId1"/>
          <a:stretch/>
        </p:blipFill>
        <p:spPr>
          <a:xfrm>
            <a:off x="5486400" y="152280"/>
            <a:ext cx="198108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RandM\Local Settings\Temporary Internet Files\Content.IE5\AC38MMT1\MMj03033780000[1].gif"/>
          <p:cNvPicPr/>
          <p:nvPr/>
        </p:nvPicPr>
        <p:blipFill>
          <a:blip r:embed="rId2"/>
          <a:stretch/>
        </p:blipFill>
        <p:spPr>
          <a:xfrm>
            <a:off x="7467480" y="838080"/>
            <a:ext cx="1676520" cy="158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RandM\Local Settings\Temporary Internet Files\Content.IE5\Z0DUKDON\MMj02837360000[1].gif"/>
          <p:cNvPicPr/>
          <p:nvPr/>
        </p:nvPicPr>
        <p:blipFill>
          <a:blip r:embed="rId3"/>
          <a:stretch/>
        </p:blipFill>
        <p:spPr>
          <a:xfrm>
            <a:off x="4952880" y="16765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C:\Documents and Settings\RandM\Local Settings\Temporary Internet Files\Content.IE5\CFCXQ621\MCj04298310000[1].wmf"/>
          <p:cNvPicPr/>
          <p:nvPr/>
        </p:nvPicPr>
        <p:blipFill>
          <a:blip r:embed="rId4"/>
          <a:stretch/>
        </p:blipFill>
        <p:spPr>
          <a:xfrm>
            <a:off x="6324480" y="41911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09480" y="6858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arrive à Par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ne peut pas le croire;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ierre est allé à Québec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our la voi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 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ntenant qu’est-c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qu’elle fait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dit: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« Je dois m’en aller!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C:\Documents and Settings\RandM\Local Settings\Temporary Internet Files\Content.IE5\QQ30MGKB\MMj01740320000[1].gif"/>
          <p:cNvPicPr/>
          <p:nvPr/>
        </p:nvPicPr>
        <p:blipFill>
          <a:blip r:embed="rId1"/>
          <a:stretch/>
        </p:blipFill>
        <p:spPr>
          <a:xfrm>
            <a:off x="5105520" y="152280"/>
            <a:ext cx="17064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Documents and Settings\RandM\Local Settings\Temporary Internet Files\Content.IE5\Z0DUKDON\MMj02827380000[1].gif"/>
          <p:cNvPicPr/>
          <p:nvPr/>
        </p:nvPicPr>
        <p:blipFill>
          <a:blip r:embed="rId2"/>
          <a:stretch/>
        </p:blipFill>
        <p:spPr>
          <a:xfrm>
            <a:off x="7086600" y="990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RandM\Local Settings\Temporary Internet Files\Content.IE5\42HSUEIM\MCj01569290000[1].wmf"/>
          <p:cNvPicPr/>
          <p:nvPr/>
        </p:nvPicPr>
        <p:blipFill>
          <a:blip r:embed="rId3"/>
          <a:stretch/>
        </p:blipFill>
        <p:spPr>
          <a:xfrm>
            <a:off x="6705720" y="2209680"/>
            <a:ext cx="995400" cy="100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RandM\Local Settings\Temporary Internet Files\Content.IE5\WI64F3O9\MMj02836760000[1].gif"/>
          <p:cNvPicPr/>
          <p:nvPr/>
        </p:nvPicPr>
        <p:blipFill>
          <a:blip r:embed="rId4"/>
          <a:stretch/>
        </p:blipFill>
        <p:spPr>
          <a:xfrm>
            <a:off x="152280" y="3352680"/>
            <a:ext cx="1295640" cy="325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C:\Documents and Settings\RandM\Local Settings\Temporary Internet Files\Content.IE5\CFCXQ621\MCj04298310000[1].wmf"/>
          <p:cNvPicPr/>
          <p:nvPr/>
        </p:nvPicPr>
        <p:blipFill>
          <a:blip r:embed="rId5"/>
          <a:stretch/>
        </p:blipFill>
        <p:spPr>
          <a:xfrm>
            <a:off x="6324480" y="4191120"/>
            <a:ext cx="1889280" cy="89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RandM\Local Settings\Temporary Internet Files\Content.IE5\QQ30MGKB\MMj03368240000[1].gif"/>
          <p:cNvPicPr/>
          <p:nvPr/>
        </p:nvPicPr>
        <p:blipFill>
          <a:blip r:embed="rId6"/>
          <a:stretch/>
        </p:blipFill>
        <p:spPr>
          <a:xfrm>
            <a:off x="7543800" y="5029200"/>
            <a:ext cx="1419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28600" y="16002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 à pied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march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’est ça qu’elle fait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C:\Documents and Settings\RandM\Local Settings\Temporary Internet Files\Content.IE5\FR7E5E4P\MMj03567090000[1].gif"/>
          <p:cNvPicPr/>
          <p:nvPr/>
        </p:nvPicPr>
        <p:blipFill>
          <a:blip r:embed="rId1"/>
          <a:stretch/>
        </p:blipFill>
        <p:spPr>
          <a:xfrm>
            <a:off x="5791320" y="9144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20:24:11Z</dcterms:created>
  <dc:creator>user</dc:creator>
  <dc:description/>
  <dc:language>en-US</dc:language>
  <cp:lastModifiedBy>user</cp:lastModifiedBy>
  <dcterms:modified xsi:type="dcterms:W3CDTF">2008-09-25T00:44:27Z</dcterms:modified>
  <cp:revision>33</cp:revision>
  <dc:subject/>
  <dc:title>Comment Y aller?</dc:title>
</cp:coreProperties>
</file>